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D6F-857D-4BED-A839-533C3B9E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E38-32CD-4922-B78D-16B7DF11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FF5-DFF4-4BF7-9747-BD79416D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F55-A961-4877-B664-C434CF8B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9FE-96EC-4FA8-92FE-F5EEEEC2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9DD-F249-4FD8-AB47-998D1AB4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27F-6403-489F-A990-5B601D73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A42-C62A-4DD5-8B04-D65BBFF4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CEE-8B03-483E-831F-21F15B15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97C-D024-49B7-8BE4-8F010C9D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881-B0A0-41A5-9529-DEE61B97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29C-2C2D-4AD9-ABFE-B374ED10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36B9-97C1-40B5-B512-E10F9394E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5080" y="3041640"/>
            <a:ext cx="845496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umber the stars   presentation     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y Fe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94560" y="1397160"/>
            <a:ext cx="235584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live in Copenhagen,Denmark in 1943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28680" y="2743200"/>
            <a:ext cx="87836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ain charact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nemarie-she is very brave.She knew that there was no great aunt birte.She took the packet to uncle Henric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len-she is a jew.On their new year she stayed the night with Annemarie.Her mom and dad went on a boat.Somewhere where it would be saf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03040" y="4092480"/>
            <a:ext cx="99507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inor charact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m-on the way back she broke her anc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cle Henrick-was a fisherman.He took the Rosens and other people to Sweed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ter-he was like Annemarie and Kirsti brot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30040" y="3684600"/>
            <a:ext cx="9410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o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live in Copenhagen , Denmark. Their Uncle Henrick want them to come down to where their mom lived. Great-aunt-birte had just di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36480" y="3249720"/>
            <a:ext cx="90280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eat-aunt-birte had died. Everybody gathered for her funeral. Mama took the Rosens and some other people to Uncle Henricks . Mr. Rosen had dropped the packet that was so important.Mama broke her ancle. Annemarie found the packet and took it to Uncle Henric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74520" y="3935520"/>
            <a:ext cx="101491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all worked out fine. They got there safely. They got there without getting cought, They were more safe in the new place. Someday they will come back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27000" y="3427560"/>
            <a:ext cx="100839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heme is bravery. Annemarie is very brave. She stood up to the soldiers. She was in a very dangerious posi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905120" y="2924280"/>
            <a:ext cx="573696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Windows User</cp:lastModifiedBy>
  <dcterms:modified xsi:type="dcterms:W3CDTF">2011-02-09T16:18:49Z</dcterms:modified>
  <cp:revision>1</cp:revision>
  <dc:subject/>
  <dc:title>PowerPoint Presentation</dc:title>
</cp:coreProperties>
</file>